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5A18-1944-4F2E-AAFC-7845777B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BF33-02EE-484D-B642-F014BF126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945A-A9F3-4C20-9167-7BB4DA4A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F08-224B-48D7-A179-54425089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72F-7A28-441A-A6EB-1FB00A4F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1EC4-58F7-4A7F-8335-FEFD1EF8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624F-B3E2-4C84-91F1-928DB897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681-FFFD-4D58-9CA4-5A0AD8DD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DBCB-4238-4A8E-814A-2B257CADA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603F-AA89-42C2-A623-0A91CF6F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C94-C3F7-4578-B168-5E35F180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9C0-0F33-4EA0-826C-A526489E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2105-0599-4B21-8D45-8F8E7038D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Outlines%20-%20April/Outline%201-3%20REV%20March%2017.doc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solidFill>
            <a:srgbClr val="558ed5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urriculum Mapping Plan/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me/Dates for Professional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Essential Ques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cept/Cont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Skil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vidence/Products Produce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alibri"/>
              </a:rPr>
              <a:t>Assign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C:\Documents and Settings\Heidi Jacobs\Local Settings\Temporary Internet Files\Content.IE5\O6OIR4BO\MCj04396130000[1].png"/>
          <p:cNvPicPr/>
          <p:nvPr/>
        </p:nvPicPr>
        <p:blipFill>
          <a:blip r:embed="rId1"/>
          <a:stretch/>
        </p:blipFill>
        <p:spPr>
          <a:xfrm>
            <a:off x="5943600" y="2819520"/>
            <a:ext cx="2590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153000"/>
            <a:ext cx="8915400" cy="29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1120" rIns="228600" tIns="228600" bIns="182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mplementation (PD) M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Goal(s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280" y="1600200"/>
          <a:ext cx="8458200" cy="5068800"/>
        </p:xfrm>
        <a:graphic>
          <a:graphicData uri="http://schemas.openxmlformats.org/drawingml/2006/table">
            <a:tbl>
              <a:tblPr/>
              <a:tblGrid>
                <a:gridCol w="914400"/>
                <a:gridCol w="3810240"/>
                <a:gridCol w="3733560"/>
              </a:tblGrid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sential Ques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i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vid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ssign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0" y="-115200"/>
            <a:ext cx="8915400" cy="27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1120" rIns="228600" tIns="228600" bIns="18252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Implementation (PD) Ma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Goal(s)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280" y="762120"/>
          <a:ext cx="8458200" cy="6280200"/>
        </p:xfrm>
        <a:graphic>
          <a:graphicData uri="http://schemas.openxmlformats.org/drawingml/2006/table">
            <a:tbl>
              <a:tblPr/>
              <a:tblGrid>
                <a:gridCol w="1067040"/>
                <a:gridCol w="3657600"/>
                <a:gridCol w="3733560"/>
              </a:tblGrid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-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:30-3:30 p.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-ser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:00-11:30 a.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sential Ques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s Curriculum Mapp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it serve as a HUB for school improvement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you upgrade your assessments to address 21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entury skill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ow can you replace dated assessments types with more contemporary form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0c0"/>
                          </a:solidFill>
                          <a:latin typeface="Arial"/>
                          <a:ea typeface="Arial"/>
                        </a:rPr>
                        <a:t>Mapping is a two-sided coin: diagnosis and prescrip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Definition of mapp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Components and 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Conn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Possible products that could be produced in the proces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Curriculum design requires deliberate choices reflecting the time in which we liv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Sample Contemporary assess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Digital 2.0 To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Alignment to skills in maps and level of understa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kil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Identify the components of a ma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Review different maps and determine the specific elements that provide more informa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determine connections with other initiat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Identify the reasons for mapping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View 21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entury classroom projects and brainstorm possible applications for your ma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Identify skills in maps that could best be demonstrated using 2.0 To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Unpack assessments to crosscheck alignment with skills, content, and level of understan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vid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phic organizer distinguishing between old and new ter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phic organizer connecting initiativ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t of reasons for mappin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t of products that can be produced in the proces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graded classroom assessments incorporating appropriate digital to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ainstormed assessment ideas with a part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ni projects using 21</a:t>
                      </a:r>
                      <a:r>
                        <a:rPr b="1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entury classro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ign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dentify a unit you wish to map and  identify the most important concept you want students to understan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pgrade assessments in two more units before our next session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6858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lementation/PD </a:t>
            </a: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294920"/>
            <a:ext cx="7848720" cy="5257800"/>
          </a:xfrm>
          <a:prstGeom prst="rect">
            <a:avLst/>
          </a:prstGeom>
          <a:solidFill>
            <a:srgbClr val="558ed5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Clarity in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pen Alig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Clearly defined expec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grade to 2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entury Curricul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HUB for connecting all school improvement eff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rehensive plan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ccessful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Calibri"/>
              </a:rPr>
              <a:t>Communication t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C:\Users\Ann\Desktop\My Pictures\Alice\100_0670.JPG"/>
          <p:cNvPicPr/>
          <p:nvPr/>
        </p:nvPicPr>
        <p:blipFill>
          <a:blip r:embed="rId2"/>
          <a:stretch/>
        </p:blipFill>
        <p:spPr>
          <a:xfrm>
            <a:off x="6324480" y="4419720"/>
            <a:ext cx="22068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20:39:00Z</dcterms:created>
  <dc:creator>Ann</dc:creator>
  <dc:description/>
  <dc:language>en-US</dc:language>
  <cp:lastModifiedBy>Ann</cp:lastModifiedBy>
  <dcterms:modified xsi:type="dcterms:W3CDTF">2010-01-05T21:24:07Z</dcterms:modified>
  <cp:revision>4</cp:revision>
  <dc:subject/>
  <dc:title>Slide 1</dc:title>
</cp:coreProperties>
</file>